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677C-52D4-4E5A-85C5-8AF168DC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212-8ED1-4239-A496-ECACFF19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AB7-BC94-4B90-A233-0BB127E7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6175-DD2F-45A3-AB0D-5D220FFD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165F-7383-44EF-806D-BD81553A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303-3819-44B3-A407-C4BECDBC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490-A41E-407B-972B-31528611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E871-F5AA-45F7-B220-D60407E8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FE4-0630-470D-BF25-302F5C60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A4E0-D578-48C2-9B05-EFD4CAFB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FC8E-E577-4D33-A340-3582632A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7EF-396A-4833-B336-3C8F9473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D0853-2FE8-4445-AE9E-065E2BD0D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iciple cla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an use a present or past participle in a clause which has an adverbial meaning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8692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lauses can be about TIME, REASON, and RESUL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Open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er eyes, th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ab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began to cry. (When she opened her eyes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Fac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with a bill for €10,000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Joh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as taken on a second job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eing imported,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adio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were more expensiv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Having been hunted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ose to extinction, th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hino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s once again common in this are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y can replace a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on-defining relative clau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Feel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ired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ouis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went to be early. (Louise, who was feeling tired,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Form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25 years ago, th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lub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s holding an anniversary par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e negative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ot wanting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wake her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tev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left the house silentl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referring no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go out that night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de an excu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mplied subject is usually the same as the subject of the main cla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rriv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the party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aw Rut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and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l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aving wante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rive a train all his life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knew that this was an opportunity not to be mis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uses that give information about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Glanc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ver his shoulder, he could see the dog chasing hi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Having complete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book, he went on holid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Putting o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serious face, she began to tella sto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ait a minute!’, said Frank,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runn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rough the hal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Having drive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five hours, Dan found out that the meeting had been postpon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aking off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s shoes /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Having taken off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s shoes, Ray walked into the hou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uses that give information about REASONS and RESUL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now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xactly what I wanted, I didn’t spend much time shopp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e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lim, he could squeeze through the opening in the f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aving been invi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he party, we could hardly refuse to 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write the sentences beginning with a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–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st participl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ie left work early because she didn’t feel too wel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manager was impressed by Jo’s work so he extended so he extended her contract for a yea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e had acquired the money through hard work, so he was reluctant to give it awa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cause he had started the course, Alan was determined to complete i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 he didn’t want to offend him, we said nothing about his painting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 I haven’t seen all the evidence, I am reluctant to make a judg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t the quoted speech first, and use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–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u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I grabbed Don by the arm, I said, ‘Look it’s Tim’s new car!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she pointed to the empty table, Sandra said, ‘My bag was here just a moment ago!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she turned over in bed, Helen groaned, “I’ll get up in an hour or so.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se verbs in the following sentenc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rive   climb   spend   take  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. the wrong bus, Tony found himself in an unfamiliar tow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. a tree, Lee was able to see a way out of the fores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. as a clerk, house painter, and bus driver, neil decided to go back to univers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. all morning working in the garden, Betty took a short lunch brea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early for his appointment, Ron spent some time looking at the magazin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ch the sentence halves and form new sentences with participle clau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e was a do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 didn’t expect anyone to be in the hou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room had been painted in dark colou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ve was unemploy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 don’t speak Itali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rbara had been a teacher for 14 yea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---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e knew how to keep children interest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 found life in Sicily difficul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 walked straight i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e knew the side effects the medicine could hav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 had time to consider what ob he really want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room needed some bright ligh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3T09:32:13Z</dcterms:created>
  <dc:creator>Paul Filippetto</dc:creator>
  <dc:description/>
  <dc:language>en-US</dc:language>
  <cp:lastModifiedBy>Paul Filippetto</cp:lastModifiedBy>
  <dcterms:modified xsi:type="dcterms:W3CDTF">2014-04-03T10:25:58Z</dcterms:modified>
  <cp:revision>9</cp:revision>
  <dc:subject/>
  <dc:title>participle clauses</dc:title>
</cp:coreProperties>
</file>